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41E74-661A-4C1B-9A28-CE11176FB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0014B-B431-4372-9A37-883383303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82A09-8B2A-422F-8F2A-5D8B16DA2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F7E32-5CB2-4691-91D4-27D9DD00B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A5E47-B845-4CAB-ADEE-CCA0B47A9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9AEB2-1AED-41D0-AEDF-06E66F73C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58FBB-9EEF-40F3-A1DE-B864C7164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F5C9C-C7DC-4090-82AE-5147BB788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01E37-106C-4970-B5BD-7198CB9AC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408C7-EC92-467F-BFBC-E15F61A55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70A73-3FE1-46B3-8A5A-74215E41F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E3855-1166-43BB-83EF-EE0D17951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E853-151A-4309-B145-D2E4FD18DF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ransition spd="med">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5148360" y="1484280"/>
            <a:ext cx="1439640" cy="1440000"/>
          </a:xfrm>
          <a:prstGeom prst="rect">
            <a:avLst/>
          </a:prstGeom>
          <a:ln w="9360">
            <a:solidFill>
              <a:srgbClr val="969696"/>
            </a:solidFill>
            <a:miter/>
          </a:ln>
        </p:spPr>
      </p:pic>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13a3</cp:lastModifiedBy>
  <dcterms:modified xsi:type="dcterms:W3CDTF">2012-06-19T11:00:04Z</dcterms:modified>
  <cp:revision>43</cp:revision>
  <dc:subject/>
  <dc:title>SALARIUL</dc:title>
</cp:coreProperties>
</file>